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FF7-A938-4D7D-ADB1-AE34630E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1B8-68E0-4793-87E9-3800D34A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B4F-ED6E-4A47-BA07-6DEA91C4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796-B8FA-4A9E-8FFB-59C89068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DA5A-33E4-400D-A028-6B1A28D5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7920-2551-4C27-ABDC-488C66D2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2AA-974F-4A7A-BF49-035204B5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C80C-E59E-46F2-BFEB-1FB37885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04A7-6A66-4EEE-8322-27C4C397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181A-3E54-467F-921C-C0E004BD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682D-74B0-40BF-9CD0-47CDE45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EC4-7275-4232-955E-BF0DAE7F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4CF5-11D8-4C73-B97C-7E470715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FB43-F56C-480F-AEB7-EE81579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9A6A-9CBD-4DD3-BC54-714EBD40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090A-F81E-4257-B88F-1095E576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59B8-E107-4CD6-A0BD-EF167A1C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3AC-DBB7-4A7A-A4D4-0DC245CE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E08-3976-402B-B26B-3FD52759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8A1-752D-42FB-AD1F-9CD02AAE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DC6-EDE6-4175-9BDB-ADA08ECD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7F2-FDC0-4AAF-9BAD-5054B72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F2D-BD80-4F4B-B502-2CD2238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845-6054-48EB-94A1-847D3C9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962E-61E2-47AC-9439-6757F939F9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2762-C184-43DB-83B5-255385BDB0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6;&#1074;&#1077;&#1090;_&#1045;&#1074;&#1088;&#1086;&#1087;&#1099;" TargetMode="External"/><Relationship Id="rId2" Type="http://schemas.openxmlformats.org/officeDocument/2006/relationships/hyperlink" Target="https://ru.wikipedia.org/wiki/1997_&#1075;&#1086;&#1076;" TargetMode="External"/><Relationship Id="rId3" Type="http://schemas.openxmlformats.org/officeDocument/2006/relationships/hyperlink" Target="https://ru.wikipedia.org/wiki/2000_&#1075;&#1086;&#1076;" TargetMode="External"/><Relationship Id="rId4" Type="http://schemas.openxmlformats.org/officeDocument/2006/relationships/hyperlink" Target="https://ru.wikipedia.org/wiki/&#1043;&#1088;&#1072;&#1078;&#1076;&#1072;&#1085;&#1089;&#1090;&#1074;&#1086;" TargetMode="External"/><Relationship Id="rId5" Type="http://schemas.openxmlformats.org/officeDocument/2006/relationships/hyperlink" Target="https://ru.wikipedia.org/wiki/2016_&#1075;&#1086;&#1076;" TargetMode="External"/><Relationship Id="rId6" Type="http://schemas.openxmlformats.org/officeDocument/2006/relationships/hyperlink" Target="https://ru.wikipedia.org/wiki/&#1056;&#1086;&#1089;&#1089;&#1080;&#1103;" TargetMode="External"/><Relationship Id="rId7" Type="http://schemas.openxmlformats.org/officeDocument/2006/relationships/hyperlink" Target="https://ru.wikipedia.org/wiki/&#1051;&#1072;&#1090;&#1074;&#1080;&#1103;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u.wikipedia.org/wiki/&#1060;&#1080;&#1079;&#1080;&#1095;&#1077;&#1089;&#1082;&#1086;&#1077;_&#1083;&#1080;&#1094;&#1086;" TargetMode="External"/><Relationship Id="rId3" Type="http://schemas.openxmlformats.org/officeDocument/2006/relationships/hyperlink" Target="https://ru.wikipedia.org/wiki/&#1043;&#1086;&#1089;&#1091;&#1076;&#1072;&#1088;&#1089;&#1090;&#1074;&#1086;" TargetMode="External"/><Relationship Id="rId4" Type="http://schemas.openxmlformats.org/officeDocument/2006/relationships/hyperlink" Target="https://ru.wikipedia.org/wiki/&#1040;&#1087;&#1072;&#1090;&#1088;&#1080;&#1076;" TargetMode="External"/><Relationship Id="rId5" Type="http://schemas.openxmlformats.org/officeDocument/2006/relationships/hyperlink" Target="https://ru.wikipedia.org/wiki/&#1040;&#1087;&#1072;&#1090;&#1088;&#1080;&#1076;" TargetMode="External"/><Relationship Id="rId6" Type="http://schemas.openxmlformats.org/officeDocument/2006/relationships/hyperlink" Target="https://ru.wikipedia.org/wiki/&#1041;&#1080;&#1087;&#1072;&#1090;&#1088;&#1080;&#1076;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ема: Основы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авового положения человека и гражданин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428640"/>
            <a:ext cx="60325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нятие, сущнос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ы правового статуса лич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жданство: понятие, принципы и признак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ы приобретения граждан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вовой статус иностранцев и лиц без гражданств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тус беженцев, временных переселенце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нципы граждан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268280"/>
          <a:ext cx="7696080" cy="50850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0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не ограничение прав граждан по признакам социальной, расовой, национальной, языковой или религиозной принадлеж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диного и равного гражданств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выдача граждан другому государств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ние двойного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во изменить гражданст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можность лишения гражданства в особых случа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не ограничение прав граждан по признакам социальной, расовой, национальной, языковой или религиозной принадлеж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диного и равного гражданств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выдача граждан другому государств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во изменить гражданст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возможность лишения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ощрения приобретения гражданства Российской Федер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единство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отвращение возникновения случаев без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ние права на смену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возможности лишения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хранение гражданства Украины независимо от места жительства граждани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возможности автоматического приобретения гражданст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остранцем или лицом без гражданства вследствие заключения бра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вой статус иностранц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он Украины «О правовом статусе иностранцев и лиц без гражданства» от 22.09.20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едеральный закон "О правовом положении иностранных граждан в Российской Федерации" от 25.07.20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остранец - лицо, не состоящее в гражданстве страны пребывания и является гражданином (подданным) другого государства или государст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цо без гражданства - физическое лицо, не являющееся гражданином страны и не имеющее доказательств наличия гражданства (подданства) иностранного государ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Заграничные украинцы» и «соотечественни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Заграничный украинец 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это лицо, которое является гражданином другого государства или лицом без гражданства, но имеет украинское этническое происхождение (украинское этническое происхождение - это принадлежность лица или его предков к украинской нации и признающих Украину родиной своего этнического происхождения). Основными особенностями, которые отличают сегодня правовой статус заграничного украинца от правового статуса иностранцев и лиц без гражданства, является порядок въезда и пребывания на территории Украины, а также процедура упрощенной иммиграци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отечественни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9640" y="1557360"/>
            <a:ext cx="7696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сударственная программа по оказанию содействия добровольному переселению в РФ соотечественников, проживающих за рубеж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отечественни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— лица, родившиеся в одном государстве, проживающие, либо проживавшие в нём и обладающие признаками общности культурного наследия, а также потомки указанных лиц по прямой нисходящей ли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85800" y="47592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ля соотечественников выделено три категории вселе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тегория «А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ятся преимущественно стратегически важные для России приграничные территории. Переселенцам на территориях данной категории государственные гарантии и социальная поддержка, предусмотренные для участника Гос. программы и членов его семьи, предоставляются в полном объ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тегория «Б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ятся территории, где реализуются крупные инвестиционные проекты, требующие массового привлечения переселенцев. Переселенцам на территориях данной категории предоставляются государственные гарантии и социальная поддержка, за исключением ежемесячного пособия, выплачиваемого при отсутствии     дохода от трудовой, предпринимательской и иной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 запрещенной законодательством РФ 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тегория «В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ятся территории с устойчивым социально-экономическим развитием, на которых в течение последних трех и более лет наблюдаю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кращение общей численности     населения и (или) миграционный отток. Переселенцам на территориях данной категории предоставляются государственные гарантии и социальная поддержка,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усмотренные для участника Гос. программы и членов его семьи, за исключением ежемесячного пособия, выплачиваемого при отсутствии дохода от трудовой,         предпринимательской и иной не   запрещенной законодательством РФ деятельности, и «подъемных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оритетными регионами являютс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байкал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урят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мча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ор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асти Амурского кр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абаровские об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ркутские и Магаданские регио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хали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2017 года 47 регионов готовы принять соотечественников, которые будут пользоваться максимальным уровнем господдерж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ежен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он Украины «О беженцах и лицах, нуждающихся в дополнительной  или временной защи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от 08.07.2011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едеральный закон РФ от 19 февраля 1993 г. N 4528-I "О беженцах«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венция о статусе беженц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инята 28 июля 1951 года Конференцией полномочных представителей по вопросу о статусе беженцев и апатридов, созванной в соответствии с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золюцией 429 (V)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 Генеральной Ассамблеи от 14 декабря 1950 г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54936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еженец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лицо, не являющееся гражданином страны и вследствие обоснованных опасений стать жертвой преследований по признаку расы, вероисповедания, национальности, гражданства (подданства), принадлежности к определенной социальной группе или политических убеждений находится вне страны своей гражданской принадлежности и не может пользоваться защитой этой страны или не желает пользоваться этой защитой вследствие таких опасений, или, не имея гражданства (подданства) и находясь вне страны своего прежнего постоянного проживания, не может или не желает вернуться в нее вследствие указанных опас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нужденные переселенц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128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он Украины «Об обеспечении прав и свобод внутренне перемещенных лиц»  в ред.20.04.201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он РФ от 19.02.1993 «О вынужденных переселенцах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ждународное Соглашение о помощи беженцам и вынужденным переселенцам от 24 сентября 1993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187280" y="1862280"/>
            <a:ext cx="705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вой статус лич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это система закрепленных в нормативно-правовых актах и гарантированных государством прав, свобод, обязанностей, ответственности, в соответствии с которыми индивид как субъект права, (т.е. имеющий правосубъектность) координирует свое поведение в обществе.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нужденными переселенца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могут быть признаны: гражданин России, который покинул место жительства на территории одного из субъектов Федерации и прибыл на территорию другого субъекта или вынужден покинуть место жительства на территории иностранного государства и прибыл на территорию России; иностранец, лицо без гражданства, которые покинули место постоянного жительства на территории одного из субъектов Федерации и прибыли на территорию другого субъек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нутренне перемещенным лицом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вляется гражданин Украины, который постоянно проживает в Украине, которого заставили или он самостоятельно покинул свое место жительства в результате или во избежание негативных последствий вооруженного конфликта, временной оккупации, повсеместных проявлений насилия, массовых нарушений прав человека и чрезвычайных ситуаций природного или техногенного характе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иды правовых статусов личност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бщи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- статус лица как гражданина государства закреплен в Конституции и конституционных законах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пециальны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- статус лица как представителя той или иной социальной группы который наделен согласно законов и иных нормативных актов специальными, дополнительными правами и обязанностями 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ндивидуальн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- статус лица как индивидуума, который составляет персонифицированные права и обязанности в их конкретных, природных и приобретенных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собностях и особенностя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РАЖДАН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кон Украины «О гражданстве Украины» от 18.01.2001 года ( в ред. 19.02.2016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закон РФ от 31.05.2002 (в ред. 29.07.2017) «О гражданстве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ект Закона ДНР «О гражданстве Донецкой Народной Республики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вропейская конвенция о гражданс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конвенция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овета Европ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принятая в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1997 год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и вступившая в силу в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2000 год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Регулирует условия и процедуры приобретения, утраты и восстановления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гражданств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принципы действий в случае преемственности государств или множественного гражданства. На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2019 год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21 государство является участником конвенции; еще 9 её подписали, в том числе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Росс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Латв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подписала конвенцию, однако в 2012 году Сейм отклонил ратификацию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1187280" y="597240"/>
            <a:ext cx="6480360" cy="51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ражда́нств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— устойчивая политико-правовая связь 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граждани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и 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государ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выражающаяся в наличии взаимных прав, обязанностей и ответственност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П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атрид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гражданин (подданный), беженец, вынужденный переселенец, «соотечественник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апатрид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(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лицо без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 — лицо, которое не рассматривается в качестве гражданина каким-либо государством в силу его зако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— лицо, имеющее доказательства наличия у него гражданства двух государств. Бипатридами также обычно называют и лиц, имеющих более одного граждан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особы приобретения граждан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Organization Chart 19"/>
          <p:cNvGrpSpPr/>
          <p:nvPr/>
        </p:nvGrpSpPr>
        <p:grpSpPr>
          <a:xfrm>
            <a:off x="682560" y="1812960"/>
            <a:ext cx="7632360" cy="3599280"/>
            <a:chOff x="682560" y="1812960"/>
            <a:chExt cx="7632360" cy="3599280"/>
          </a:xfrm>
        </p:grpSpPr>
        <p:cxnSp>
          <p:nvCxnSpPr>
            <p:cNvPr id="161" name="_s1028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622480" y="2127600"/>
              <a:ext cx="720360" cy="296856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29"/>
            <p:cNvCxnSpPr>
              <a:stCxn id="165" idx="0"/>
              <a:endCxn id="163" idx="2"/>
            </p:cNvCxnSpPr>
            <p:nvPr/>
          </p:nvCxnSpPr>
          <p:spPr>
            <a:xfrm flipV="1" rot="16200000">
              <a:off x="4632840" y="3117240"/>
              <a:ext cx="720360" cy="98928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1030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3643920" y="3117240"/>
              <a:ext cx="720360" cy="99000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31"/>
            <p:cNvCxnSpPr>
              <a:stCxn id="169" idx="0"/>
              <a:endCxn id="163" idx="2"/>
            </p:cNvCxnSpPr>
            <p:nvPr/>
          </p:nvCxnSpPr>
          <p:spPr>
            <a:xfrm flipH="1" flipV="1" rot="5400000">
              <a:off x="2654280" y="2127600"/>
              <a:ext cx="720360" cy="2968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1032"/>
            <p:cNvSpPr/>
            <p:nvPr/>
          </p:nvSpPr>
          <p:spPr>
            <a:xfrm>
              <a:off x="3650760" y="181296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о рождению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филиация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1033"/>
            <p:cNvSpPr/>
            <p:nvPr/>
          </p:nvSpPr>
          <p:spPr>
            <a:xfrm>
              <a:off x="682560" y="39726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«право почвы»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_s1034"/>
            <p:cNvSpPr/>
            <p:nvPr/>
          </p:nvSpPr>
          <p:spPr>
            <a:xfrm>
              <a:off x="2661120" y="39726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«право крови»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1035"/>
            <p:cNvSpPr/>
            <p:nvPr/>
          </p:nvSpPr>
          <p:spPr>
            <a:xfrm>
              <a:off x="4640040" y="39726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Смешанный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ринцип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_s1036"/>
            <p:cNvSpPr/>
            <p:nvPr/>
          </p:nvSpPr>
          <p:spPr>
            <a:xfrm>
              <a:off x="6618960" y="39726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о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следованию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Organization Chart 7"/>
          <p:cNvGrpSpPr/>
          <p:nvPr/>
        </p:nvGrpSpPr>
        <p:grpSpPr>
          <a:xfrm>
            <a:off x="611280" y="765000"/>
            <a:ext cx="7632360" cy="3599280"/>
            <a:chOff x="611280" y="765000"/>
            <a:chExt cx="7632360" cy="3599280"/>
          </a:xfrm>
        </p:grpSpPr>
        <p:cxnSp>
          <p:nvCxnSpPr>
            <p:cNvPr id="171" name="_s2052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551200" y="1079640"/>
              <a:ext cx="720360" cy="296856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3"/>
            <p:cNvCxnSpPr>
              <a:stCxn id="175" idx="0"/>
              <a:endCxn id="173" idx="2"/>
            </p:cNvCxnSpPr>
            <p:nvPr/>
          </p:nvCxnSpPr>
          <p:spPr>
            <a:xfrm flipV="1" rot="16200000">
              <a:off x="4561560" y="2069280"/>
              <a:ext cx="720360" cy="98928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4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3572640" y="2069280"/>
              <a:ext cx="720360" cy="99000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5"/>
            <p:cNvCxnSpPr>
              <a:stCxn id="179" idx="0"/>
              <a:endCxn id="173" idx="2"/>
            </p:cNvCxnSpPr>
            <p:nvPr/>
          </p:nvCxnSpPr>
          <p:spPr>
            <a:xfrm flipH="1" flipV="1" rot="5400000">
              <a:off x="2583000" y="1079640"/>
              <a:ext cx="720360" cy="2968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2056"/>
            <p:cNvSpPr/>
            <p:nvPr/>
          </p:nvSpPr>
          <p:spPr>
            <a:xfrm>
              <a:off x="3579480" y="7650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турализация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укоренение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2057"/>
            <p:cNvSpPr/>
            <p:nvPr/>
          </p:nvSpPr>
          <p:spPr>
            <a:xfrm>
              <a:off x="611280" y="292464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ринятие в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гражданство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2058"/>
            <p:cNvSpPr/>
            <p:nvPr/>
          </p:nvSpPr>
          <p:spPr>
            <a:xfrm>
              <a:off x="2589840" y="292464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В результате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вступления в брак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568760" y="292464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усыновление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6547680" y="292464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Автоматическая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турализация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есовершеннолетних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детей в случае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турализации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х родителей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684036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становление граждан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интеграция — восстановление в гражданстве какого-либо государства лиц, ранее его имевших и затем утративших. Смысл реинтеграции чаще всего состоит в процедуре, которая в этих случаях применяется. Может предусматриваться в специальных законах и в обычном законодательстве о гражданстве. В последнем случае она может рассматриваться как разновидность натурализ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патриация (лат. 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repatriat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 — возвращение на родину. Термин обычно употребляется в отношении военнопленных, перемещённых лиц, беженцев, эмигрантов с восстановлением в правах гражданства или возвращение в страну проживания застрахованного при наступлении страхового случ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604836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ие способ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76964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тация — выбор лицом гражданства при изменении границ государств. Процедура оптации регулируется международными договорами таких государ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ансферт — переход населения какой-либо территории из одного гражданства в другое в связи с передачей территории, на которой оно проживает, одним государством друго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Дарование гражданст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— обычно почётное дарование гражданства лицу главой государства за какие-либо заслуги (если подобное предусмотрено законодательств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13:46:41Z</dcterms:created>
  <dc:creator>Squall Leonhart</dc:creator>
  <dc:description/>
  <dc:language>en-US</dc:language>
  <cp:lastModifiedBy>PackardBell</cp:lastModifiedBy>
  <dcterms:modified xsi:type="dcterms:W3CDTF">2023-10-24T08:16:58Z</dcterms:modified>
  <cp:revision>20</cp:revision>
  <dc:subject/>
  <dc:title>Тема: Основы правового положения человека и гражданина в Донецкой Народной Республике. Гражданство.</dc:title>
</cp:coreProperties>
</file>